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A6C-5E5D-4F90-9967-4F22D6D0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829-946F-4043-9343-150C0E8E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561-85F8-4375-AA05-854D0BC0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60C-E63B-46A4-A63C-2E0F6741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94C-77EC-49A4-B422-4AA100D7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1C9-A3EA-4849-AD8C-54FD9901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088-AE87-47DD-9788-0ADD50D5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108-9DC6-40D2-A60B-30F1F0D4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F1C-96FC-41F4-B87A-F4B8A8A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FD4-FFFE-4A51-96D0-0E832C63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7E7-6FEE-4A70-AB0F-92EE67A6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F1D-8A04-4E93-BAD3-E5FC0CF9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D18B-93D0-493B-A04A-FF804E226AD9}" type="slidenum">
              <a:rPr b="0" lang="vi-V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0000"/>
                </a:solidFill>
                <a:latin typeface="Arial"/>
              </a:rPr>
              <a:t>Chuyên đề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sơ đồ tư duy trong dạy học Ngữ vă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phần củng cố một số  bài tác giả, tác phẩm văn học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Người thực hiện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Thế Thị Nhung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Nguyễn Thị Lệ T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151272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cc"/>
                </a:solidFill>
                <a:latin typeface="Arial"/>
              </a:rPr>
              <a:t>A. Mục đích, yêu cầ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. Mục đ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Việc đổi mới PPDH trong đó có DH văn là nhu cầu cấp thiế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Sơ đồ tư duy là phương tiện dạy học hiệu quả trong việc thể hiện PPDH theo hướng đổi mới, hiện đạ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cc"/>
                </a:solidFill>
                <a:latin typeface="Arial"/>
              </a:rPr>
              <a:t>2. Yêu cầ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GV cần có những tri thức cơ bản về SĐTD: khái niệm, cấu tạo, cách thiết kế SĐTD, cách sử dụng phần mềm imindma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Học sin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Hiểu được cấu tạo của SĐ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ẽ được SĐ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Đọc – hiểu được SĐ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Thuyết trình được SĐ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sơ đồ tư duy trong dạy học Ngữ vă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phần củng cố một số bài tác giả, tác phẩm văn họ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sơ đồ tư duy trong dạy học Ngữ vă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phần củng cố một số bài tác giả, tác phẩm văn họ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79280" y="15789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cc"/>
                </a:solidFill>
                <a:latin typeface="Arial"/>
              </a:rPr>
              <a:t>B. Phạm vi ứng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cc"/>
                </a:solidFill>
                <a:latin typeface="Arial"/>
              </a:rPr>
              <a:t>1. Soạn b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cc"/>
                </a:solidFill>
                <a:latin typeface="Arial"/>
              </a:rPr>
              <a:t>2. Kiểm tra đánh g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cc"/>
                </a:solidFill>
                <a:latin typeface="Arial"/>
              </a:rPr>
              <a:t>3. Thảo luận nhó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cc"/>
                </a:solidFill>
                <a:latin typeface="Arial"/>
              </a:rPr>
              <a:t>4. Ôn tậ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cc"/>
                </a:solidFill>
                <a:latin typeface="Arial"/>
              </a:rPr>
              <a:t>5. Củng c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sơ đồ tư duy trong dạy học Ngữ vă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phần củng cố một số bài tác giả, tác phẩm văn họ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79280" y="1047240"/>
            <a:ext cx="8964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cc"/>
                </a:solidFill>
                <a:latin typeface="Arial"/>
              </a:rPr>
              <a:t>Phần củng c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0" lang="vi-VN" sz="2400" spc="-1" strike="noStrike">
                <a:solidFill>
                  <a:srgbClr val="800000"/>
                </a:solidFill>
                <a:latin typeface="Arial"/>
              </a:rPr>
              <a:t>Tác dụ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+ Phát huy tính tích cực, chủ động của 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+ Hình thành cho HS tư duy mạch lạc,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+ Giúp HS hệ thống hóa và ghi nhớ kiến thức ngay trên lớ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- Cách củng cố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Yêu cầu HS vẽ SĐTD hệ thống hóa kiến thức bài học (lưu ý HS về thời gian) -&gt; HS thuyết trình SĐTD của mình -&gt; GV nx, chỉnh sửa, bổ 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GV củng cố bằng một sơ đồ tư duy có sẵ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5"/>
          <p:cNvGraphicFramePr/>
          <p:nvPr/>
        </p:nvGraphicFramePr>
        <p:xfrm>
          <a:off x="457200" y="0"/>
          <a:ext cx="822960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10" descr="nguyentrai_1"/>
          <p:cNvPicPr/>
          <p:nvPr/>
        </p:nvPicPr>
        <p:blipFill>
          <a:blip r:embed="rId3"/>
          <a:stretch/>
        </p:blipFill>
        <p:spPr>
          <a:xfrm>
            <a:off x="3276720" y="1341360"/>
            <a:ext cx="20890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3566880" y="465300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Nguyễn Trã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(1380-14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0" y="189000"/>
          <a:ext cx="914400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119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. Kết lu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. Hiệu qu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ạo được hứng thú cho 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HS ghi nhớ kiến thức nha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HS được rèn luyện kĩ năng thuyết trình, làm việc nhó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cc"/>
                </a:solidFill>
                <a:latin typeface="Arial"/>
              </a:rPr>
              <a:t>2. Khó khăn, tồn t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Nội dung, chương trình còn nặng, ít có thời gian thực hàn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rình độ nhận thức của học sinh không cao và không đồng đề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Trình độ CNTT của GV còn hạn ch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- Điều kiện cơ sở vật chất chưa đầy đ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ử dụng sơ đồ tư duy trong dạy học Ngữ vă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phần củng cố một số bài tác giả, tác phẩm văn họ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9:11:24Z</dcterms:created>
  <dc:creator>TTNhung</dc:creator>
  <dc:description/>
  <dc:language>en-US</dc:language>
  <cp:lastModifiedBy>User</cp:lastModifiedBy>
  <dcterms:modified xsi:type="dcterms:W3CDTF">2015-01-29T05:09:55Z</dcterms:modified>
  <cp:revision>23</cp:revision>
  <dc:subject/>
  <dc:title>Slide 1</dc:title>
</cp:coreProperties>
</file>